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4.wmf" ContentType="image/x-wmf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0B2-921D-40B4-B222-8A7C5481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442-4FAF-4070-A6B0-23BDE31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995-818D-4D18-8ADB-ACD7895A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6FC-BB05-4424-8E47-CAB5DA82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2129-31B7-45FE-A7EC-E27BD8FD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09D4-1F3C-4A79-93F6-C282CBED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D1C4-8CF9-4273-9D1E-DDE479C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7390-02C6-4E24-AA96-41E3EDD7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CE30-9686-4782-A804-1002F0E5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4252-1E90-4EA7-AEB5-83B864C0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45B5-4CBA-4B71-AB07-D8101AE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74F-07ED-47BF-A3AB-40191509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292B-81F1-4648-8284-5176A97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53C3-BD8A-4951-BB12-37E89A0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FB65-F4FF-4D53-B213-EC34D34A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8EF-442E-45C1-8A91-564D3C7C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1378-4E94-4218-B341-86ED49EB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C97-E528-4BA6-96E1-A8886CB5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F5E-3C17-4DBA-A893-4A873623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2F9-1AE4-4658-82E8-5E7357D8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FC9-D828-4232-B3DA-A0E7078F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2FA-AD1D-432F-9865-CF6961D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B2D-4591-4E76-8B04-857E9B0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008-27FA-45A1-AC3A-83A75C09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9E5B-8A00-492C-9C3E-611DE95740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9309-F38C-4DDF-93EA-4D9A19A873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873080"/>
            <a:ext cx="838224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Arial"/>
              </a:rPr>
              <a:t>C# Language Fundamental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33E-D733-4E43-A577-66E7403F1D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ing Command-Line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28600" y="762120"/>
            <a:ext cx="876312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time, check if you have been sent any command-line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***** Command line args *****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args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Arg: {0} ", args[i]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Notice you have no need to check the size of the array when using 'foreach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ach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Arg: {0} ", 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4DF4-549E-4287-819D-291B3E4085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228600" y="289080"/>
            <a:ext cx="861048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Two public methods, each using an internal helper fun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Tee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The System.Random type generates random num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Random r = new Rando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Compl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messages = new string[5]{ "Do I have to?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He started it!", "I'm too tired...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I hate school!", "You are sooo wrong."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messages[GetRandomNumber(5)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BeAgreeab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messages = new string[3]{ "Sure! No problem!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Uh uh.", "I guess so."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messages[GetRandomNumber(3)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E234-FFC6-4CAC-94C1-F5DB6D111E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152280" y="152280"/>
            <a:ext cx="883944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int GetRandomNumber(short upperLimi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Random.Next() returns a random integer between 0 and upperLim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r.Next(upperLimi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Grumpy Mike say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eenager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= new Teenag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"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Complain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Now be agree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Happy Mike say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"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BeAgreeabl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07E8-20A7-4FC6-8035-9E1811BDD4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Static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228600" y="838080"/>
            <a:ext cx="87631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method is marked with the "static" keyword, it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directly from the class level, and does not require an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Main() is declared static to invoke the Main() method witho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ing to allocate a new instance of  the defining 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do not invoke the WriteLine() method from the object leve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61048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B5F4-9F1E-4877-B6F6-955950C9D4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90440" y="22860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Tee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Random r = new Random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GetRandomNumber(short upperLimi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r.Next(upperLimit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Compl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[] messages = new string[5]{ "Do I have to?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"He started it!", "I'm too tired...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"I hate school!", "You are sooo wrong."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messages[GetRandomNumber(5)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all the static Complain method of the Teenager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-&gt; {0}", Teenager.Complain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880" y="3276720"/>
            <a:ext cx="838224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Random member variable and the GetRandomNumber() helper function method have also be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ared as static members of the Teenager class, given the rule that static members can oper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other static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DB55-1585-48EA-B438-29622142B3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152280" y="7632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Stat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228600" y="611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static methods, a C# class may also define static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lass defines nonstatic data, each object of this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intains a private copy of th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228600" y="198108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is class has a single piece of nonstatic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Savings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ouble currBalan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avingsAccount(double bal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urrBalance = balan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52280" y="54100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create SavingsAccount objects, memory fo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urrBalance field is allocated for each insta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0633-5393-41EC-92B5-8833C2725C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04920" y="1054080"/>
            <a:ext cx="861048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avingsAc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double currBalanc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double currInterestRate = 0.04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avingsAccount(double bala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rrBalance = balanc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If you were to create three instances of SavingsAccount as 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Each SavingsAccount object maintains a copy of the currBalanc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avingsAccount s1 = new SavingsAccount(5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avingsAccount s2 = new SavingsAccount(10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avingsAccount s3 = new SavingsAccount(10000.75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52280" y="168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data, on the other hand, is allocated once and shared among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instances of the same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6E00-C09B-4DF6-B0FD-4491C4AF6E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24280" cy="23353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867280" cy="3254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28600" y="342900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methods can operate only on static da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onstatic method can make use of both static and nonstatic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tic data is available to all instances of the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8921-D575-4FB8-9AFD-9E5C6B3EC8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228600" y="228600"/>
            <a:ext cx="861048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Note the use of static keywo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sz="20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static data member is shared by all Airplane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sz="2000" spc="-1" strike="noStrike">
                <a:solidFill>
                  <a:srgbClr val="008000"/>
                </a:solidFill>
                <a:latin typeface="Times New Roman"/>
              </a:rPr>
              <a:t>static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sz="2000" spc="-1" strike="noStrike">
                <a:solidFill>
                  <a:srgbClr val="cc3300"/>
                </a:solidFill>
                <a:latin typeface="Times New Roman"/>
              </a:rPr>
              <a:t>Airplan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++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Get value from an object inst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GetNumberFromObje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Get value from class le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8000"/>
                </a:solidFill>
                <a:latin typeface="Times New Roman"/>
              </a:rPr>
              <a:t>static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GetNumber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D0B-B6EA-4563-8FA2-051B039747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228600" y="152280"/>
            <a:ext cx="8686800" cy="6464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some airplanes are examine the static me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tatic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some pla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Created two Airplane types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1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2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How many are in fligh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1.</a:t>
            </a:r>
            <a:r>
              <a:rPr b="0" sz="1800" spc="-1" strike="noStrike">
                <a:solidFill>
                  <a:srgbClr val="010199"/>
                </a:solidFill>
                <a:latin typeface="Times New Roman"/>
              </a:rPr>
              <a:t>GetNumberFromObject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1800" spc="-1" strike="noStrike">
                <a:solidFill>
                  <a:srgbClr val="008000"/>
                </a:solidFill>
                <a:latin typeface="Times New Roman"/>
              </a:rPr>
              <a:t>GetNumber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ore plan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Created two more Airplane types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3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4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Now how man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3.</a:t>
            </a:r>
            <a:r>
              <a:rPr b="0" sz="1800" spc="-1" strike="noStrike">
                <a:solidFill>
                  <a:srgbClr val="010199"/>
                </a:solidFill>
                <a:latin typeface="Times New Roman"/>
              </a:rPr>
              <a:t>GetNumberFromObject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1800" spc="-1" strike="noStrike">
                <a:solidFill>
                  <a:srgbClr val="008000"/>
                </a:solidFill>
                <a:latin typeface="Times New Roman"/>
              </a:rPr>
              <a:t>GetNumber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 Parameter Mod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228600" y="685800"/>
            <a:ext cx="87631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akes parameters passed in by the call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a set of parameter modifiers that control how argu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sent into a given meth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101520" y="2209680"/>
            <a:ext cx="8915400" cy="3962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90C-C127-423A-8C0C-A434A901B0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28600" y="304920"/>
            <a:ext cx="876312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w using System.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[] theArgs = Environment.GetCommandLineArgs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Path is: {0}", theArgs[0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i=1; i &lt; theArgs.Leng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Again, the args are {0}", theArgs[i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fault Parameter-Passing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fault manner in which a parameter is sent into a function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val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04920" y="1447920"/>
            <a:ext cx="86868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rguments are passed by value by defau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Add(int x, int 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ans = x + 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aller will not see these changes as you are modifying a copy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original d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1000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8888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a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52280" y="472428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the incoming integer parameters will be passed by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change the values of the parameters within the scop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, the caller is una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28600" y="228600"/>
            <a:ext cx="876312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x = 9, y = 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Before call: X: {0}, Y: {1}", x, 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Answer is: {0}", Add(x, y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After call: X: {0}, Y: {1}", x, 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228600" y="266688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values of x and y remain same before and after the call to Add(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52280" y="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# "out"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28600" y="533520"/>
            <a:ext cx="876312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dd(int x, int y,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a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ns = x + 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return a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 need to assign before use when a variable is u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a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d(9, 9,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n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nswer is : {0}", ans);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52280" y="4952880"/>
            <a:ext cx="883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ing a method with output parameters also requires the us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out"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out keyword does serve a very useful purpose: it allows the call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obtain multiple return values from a single method inv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228600" y="228600"/>
            <a:ext cx="8686800" cy="558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Returning multiple output para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illTheseValue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a,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b,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bool 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 = 9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 = "Enjoy your string.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 = tr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ool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illTheseValues(out i, out str, out 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Int is: {0}", i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String is: {0}", st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Boolean is: {0}", 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28600" y="76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# "ref"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52280" y="609480"/>
            <a:ext cx="883944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causes arguments to be passed by refer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ffect is that any changes to the parameter in the method will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flected in that variable when control passes back to the call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use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ameter, both the method definition and the call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ethod must explicitly us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istinction between output and reference parame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 parameters do not need to be initialized before they 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ssed to the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parameter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initialized before they are pass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meth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304920" y="1066680"/>
            <a:ext cx="84582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wapStrings(ref string s1, ref string s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tempStr = s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1 = s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2 = tempSt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 = "First string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2 = "My other string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: {0}, {1} ", s, s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wapStrings(ref s, ref s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: {0}, {1} ", s, s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Program :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04920" y="1050840"/>
            <a:ext cx="8534160" cy="543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RefExa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(ref string 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"changed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tr = "original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.........{0}",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(ref 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tr is now "changed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.........{0}",str);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Program :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5228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# “params”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76320" y="6890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lets you specify a method parameter that tak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n argument where the number of arguments is vari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dditional parameters are permitted after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method declaration, and only o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is permitte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method decla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52280" y="304920"/>
            <a:ext cx="845820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Return average of 'some number' of dou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double CalculateAverage(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ram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double[] valu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ouble sum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values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um += values[i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(sum / values.Leng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ass in a comma-delimited list of doubles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ouble averag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verage =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CalculateAverage(4.0, 3.2, 5.7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verage of 4.0, 3.2, 5.7 is: {0}",averag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...or pass an array of dou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ouble[] data = { 4.0, 3.2, 5.7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verage =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CalculateAverage(dat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verage of data is: {0}", averag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ing Reference Types b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52280" y="685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types can obviously be passed as parameters to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. Passing an object by reference is quite different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ssing it by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28600" y="2057400"/>
            <a:ext cx="868680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ring full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ag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erson(string n, int 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ullName = 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ge = 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erson() 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PrintInfo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is {1} years old", fullName, ag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A2EE-55A4-46A5-8205-23EFC0C6FE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ing Objects: Constructor Ba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28600" y="838080"/>
            <a:ext cx="8763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definition of a user-defined type (UDT) that is of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garded as a blueprint for variables of this typ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simply a term describing a given instance of a particul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the "new" keyword is the  way to create an object in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80880" y="3124080"/>
            <a:ext cx="85345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class c1; //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.SayHi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52280" y="7632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SendAPersonByValue(Person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hange the age of 'p'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.age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;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Will the caller see this reassignm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 = new Person("Nikki", 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assing ref-types by valu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***** Passing Person object by value 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erson fred = new Person("Fred", 1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 by value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ed.PrintInfo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ndAPersonByValue(fre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 by value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ed.PrintInfo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f a reference type is passed by value, the callee may change the values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of the object's state data, but may not change the object it is refere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ing Reference Types by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we have a SendAPersonByReference() method,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sses a reference type by refere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28600" y="152388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full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ag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erson(string n, int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ullName = 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ge =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erson() {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PrintInfo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{0} is {1} years old", fullName, ag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52280" y="76320"/>
            <a:ext cx="8839440" cy="559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SendAPersonByReference(ref Person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hange some data of 'p'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.age = 5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'p' is now pointing to a new object on the heap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 = new Person("Nikki", 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***** Passing Person object by reference 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erson mel = new Person("Mel", 2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 by ref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l.PrintInfo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ndAPersonByReference(ref me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 by ref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l.PrintInfo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320" y="57150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f a reference type is passed by reference, the callee may change th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values of the object’s state data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s well as the object it is referencing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E3F0-6F36-4F17-8040-917A382C08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152280" y="7632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y Manipulation in C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28600" y="533520"/>
            <a:ext cx="8763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rray is a collection of data points. Arrays are references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derive from a common base class named System.Ar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ys can contain any intrinsic type defined by C#, includ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rays of objects, interfaces, or struc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arrays can be single or multidimensional, and mus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ed with the square brackets ([])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laced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after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data type of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 the ar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458200" cy="2286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2"/>
          <a:stretch/>
        </p:blipFill>
        <p:spPr>
          <a:xfrm>
            <a:off x="380880" y="5969160"/>
            <a:ext cx="8458200" cy="799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027A-007C-4A37-9016-5652249509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74200" cy="1524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686800" cy="1716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"/>
          <p:cNvSpPr/>
          <p:nvPr/>
        </p:nvSpPr>
        <p:spPr>
          <a:xfrm>
            <a:off x="228600" y="1981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holds true if you create an array of custom obje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228600" y="4572000"/>
            <a:ext cx="8610480" cy="13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e size of this array will automatically be set to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Note the lack of the 'new' keyword and empty [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[] ages = {20, 22, 23, 0}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5F1-EF07-4E6C-A7C6-5D7CA6ED14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228600" y="152280"/>
            <a:ext cx="8686800" cy="335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itialize each member at declaratio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firstNames = new string[5]{ "Steve", "Gina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Swallow", "Baldy", "Gunner" 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...OR assign values member by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firstNames = new string[5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0] = "Steve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1] = "Gina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2] = "Swallow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3] = "Baldy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4] = "Gunner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52280" y="3843360"/>
            <a:ext cx="8839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mbers in a .NET array are automatically set to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spective default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an array of numerical types, each member is set to 0 (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0.0 in the case of floating point numerics), arrays of objects begin lif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t to null, and Boolean types are set to fal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AABF-5FC2-4038-8406-205BA3AC5B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2286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ys can also be passed into and returned from custom fun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52280" y="762120"/>
            <a:ext cx="883944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PrintArray(int[] myIn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(int i=0; i&lt;myInts.Length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Item {0} is {1}", i, myInts[i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[] GetStringArr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theString = {" Hello", "from", "GetStringArray"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theStrin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03040" y="4175280"/>
            <a:ext cx="878868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[] ages = {20, 22, 23, 0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ntArray(age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strs = GetStringArr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(string s in st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166E-6462-40F4-935F-B45F153EFA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52280" y="333360"/>
            <a:ext cx="876312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second_lar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[] a = new int[10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Enter the array size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n = int.Parse(Console.ReadLine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Enter the array elements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n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[i] = int.Parse(Console.ReadLine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n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j = 0; j &lt; n; j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a[i] &lt; a[j]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temp = a[i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[i] = a[j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[j] = te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The Second largest number in an array is" + a[n - 2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89F1-B50E-466F-BB78-78E0E756DB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with Multidimensional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# supports two varieties of multidimensional array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irst of these is termed a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ectangular arra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which is simply an  array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multiple dimensions, where each row is of the same leng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228600" y="1868400"/>
            <a:ext cx="876312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[,] myMatrix = new int[6, 6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6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6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Matrix[i, j] = i * j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6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6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myMatrix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78D1-387D-4727-89B1-4641BE9923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228600" y="647640"/>
            <a:ext cx="868680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matrix_mul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[,] a = new int[3,3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[,] b = new int[3,3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[,] c = new int[3,3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rows and columns for Matrix A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m1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n1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rows and columns for Matrix B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m2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n2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m1 == n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Matrix A element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1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[i, j]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" y="7632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o multiply to matrices using Rectangular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128D-F832-45AA-B8F3-A1BB4276A5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152280"/>
            <a:ext cx="85345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Class c1 = new HelloClas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Class c2 = new HelloClas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28600" y="3352680"/>
            <a:ext cx="84582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"new" keyword is in charge of allocating the correct nu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bytes for the specified class and acquiring sufficient memo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om the managed he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# object variables are actually a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referenc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o the object in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memory, not the actual object itsel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c1 and c2 each reference a distinct HelloClass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llocated on the managed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7926-49DE-437E-A6A2-7FCCF7250F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304920" y="98280"/>
            <a:ext cx="8610480" cy="646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Matrix B element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2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2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[i, j]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Matrix A i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1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a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Matrix B i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2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2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b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1E97-EDE3-49D9-9A98-902A1C7315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2"/>
          <p:cNvSpPr/>
          <p:nvPr/>
        </p:nvSpPr>
        <p:spPr>
          <a:xfrm>
            <a:off x="228600" y="152280"/>
            <a:ext cx="8610480" cy="6311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1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[i, j]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k = 0; k &lt; 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; k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[i, j] = a[i, k] * b[k, j] + c[i, j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result after multiplication i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2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c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B53E-D556-4039-93CD-B35980CD08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2"/>
          <p:cNvSpPr/>
          <p:nvPr/>
        </p:nvSpPr>
        <p:spPr>
          <a:xfrm>
            <a:off x="228600" y="2286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type of multidimensional array is termed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agged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arr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gged arrays contain some number of inner arrays, each of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have a unique upper lim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467480" cy="426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CCFC-39FA-41C8-A247-9382976DA9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304920" y="289080"/>
            <a:ext cx="861048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Jagged_ar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700" spc="-1" strike="noStrike">
                <a:solidFill>
                  <a:srgbClr val="000000"/>
                </a:solidFill>
                <a:latin typeface="Times New Roman"/>
              </a:rPr>
              <a:t>// A jagged array (an array of arrays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700" spc="-1" strike="noStrike">
                <a:solidFill>
                  <a:srgbClr val="000000"/>
                </a:solidFill>
                <a:latin typeface="Times New Roman"/>
              </a:rPr>
              <a:t> Here we have an array of 5 different array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[][] myJagArray = new int[5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myJagArray.Length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yJagArray[i] = new int[i + 7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5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Length of row {0} is {1} :\t", i, myJagArray[i].Length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j = 0; j &lt; myJagArray[i].Length; j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myJagArray[i][j] + "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BE7-E0F7-4890-B798-B3FAFD1145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228600" y="15228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Jarray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[][] jaggedArray = new int[4][];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sum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0] = new int[4] { 1, 2, 3, 4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1] = new int[2] { 1, 2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2] = new int[3] { 1, 2, 3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3] = new int[4] { 1, 2, 3, 4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jaggedArray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jaggedArray[i].Length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um = sum + jaggedArray[i][j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sum of all the elements in Jagged arrays is: {0}", su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A461-9D14-41E8-9672-0669841274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ystem.Array Bas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228600" y="8380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.NET array you create is automatically derived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Array. This class defines a number of helpful methods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ke working with arrays much more pala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8991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5F3-E440-485D-9E81-59CF342984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192240" y="254160"/>
            <a:ext cx="8875440" cy="38606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CB03-BAF4-47D8-8F93-A76FF24001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228600" y="15228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Arr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Create some string arrays and exercise some System.Array member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Array of string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ring[] firstNames = { "Steve", "Dominic", "Swallow", "Baldy" 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Here is the array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firstNames.Length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Name: {0}\t", firstNam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ray.Reverse(firstName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Here is the array once reversed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firstNames.Length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Name: {0}\t", firstNam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Clear out all but Bald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Cleared out all but Baldy..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ray.Clear(firstNames, 1, 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firstNames.Length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Name: {0}\t", firstNam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B31-B3DD-429C-A5E5-5CE9CDF12C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ing Manipulation in C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52280" y="8380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 belongs to System.St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EBDD-F7E2-4097-A106-BD0233FD80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2"/>
          <p:cNvSpPr/>
          <p:nvPr/>
        </p:nvSpPr>
        <p:spPr>
          <a:xfrm>
            <a:off x="228600" y="152280"/>
            <a:ext cx="868680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ome string oper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t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***** Fun with Strings *****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s = "Boy, this is taking a long time.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String strobj = "This is a TEST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-&gt; s contains 'oy'?: {0}", s.Contains("oy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-&gt; s contains 'Boy'?: {0}", s.Contains("Boy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s.Replace('.', '!'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s.Insert(0, "Boy O' 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 == strobj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Same..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NOt same..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newstring = s + strobj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s + strobj = {0}", newstring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k=0; k&lt;s.Length; k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har {0} is {1}", k,s[k]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8E95-08A9-4837-8BC5-57D84D0D4B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152280"/>
            <a:ext cx="87631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vious HelloClass objects have been constructed us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ault construc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ich by definition never takes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C# class is automatically provided with a free defaul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, which you may redefine if needed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fault constructor ensures that all member data is set to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ropriate default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constructors never provide a return value (not even voi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308-E44E-4364-88AC-197A6B6153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228600" y="22860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rogram for reversing a str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String_re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result, string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Enter a string 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1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sult = " 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tring length is :"+string1.Length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(int i=string1.Length-1; i&gt;=0;i-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sult = result + string1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reverse string is : " + resul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CD2F-10E9-4A47-B1C0-904B61D047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2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cape Characters and "Verbatim Strings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52280" y="76212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trings can contain any number of escape charac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escape character begins with a backslash, followed by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cific to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228600" y="2362320"/>
            <a:ext cx="8763120" cy="265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Literal strings may contain any number of escape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s3 = "Hello\tThere\tAgain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s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Everyone loves \"Hello World\"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C:\\MyApp\\bin\\debug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All finished.\n\n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DECC-4E61-418B-ADDF-9D3E918857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228600" y="4446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1742-BF3B-4575-B5B6-132C82D9311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2"/>
          <p:cNvSpPr/>
          <p:nvPr/>
        </p:nvSpPr>
        <p:spPr>
          <a:xfrm>
            <a:off x="228600" y="76320"/>
            <a:ext cx="87631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introduces the @-prefixed string literal notation termed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rbatim st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verbatim strings, you disable the processing of a literal’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scape charact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be most useful when working with  strings represen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ory and network pa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04920" y="2590920"/>
            <a:ext cx="861048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following string is printed verbat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us, all escape characters are display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@"C:\MyApp\bin\debug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304920" y="3809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note that verbatim strings can be used to preserve white spa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or strings that flow over multiple li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304920" y="4572000"/>
            <a:ext cx="861048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hite space is preserved with verbatim str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myLongString = @"This is a 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string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myLong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CD88-1A62-488C-9FBB-840C0A6330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2"/>
          <p:cNvSpPr/>
          <p:nvPr/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System.Text.StringBui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52280" y="736560"/>
            <a:ext cx="88394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ring type is perfect when you wish to represent bas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 variables (first name, SSN, etc.), it can be inefficient if you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uilding a program that makes heavy use of textual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lue of a string cannot be modified once established. C# string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re immu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examine the methods of System.String, we notice tha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th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ternally modify a string, in fact retur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difi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p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original st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304920" y="4267080"/>
            <a:ext cx="861048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ystem.String strFixed = "This is how I began life";       Console.WriteLine(strFixed)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upperVersion = strFixed.ToUppe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strFixed.ToUpper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strFixe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{0}\n\n", upperVersio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2D1-B08C-48D7-964E-402A44D079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152280" y="0"/>
            <a:ext cx="8839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n become slightly annoying to work with copies of copie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ease the pain, the System.Text namespace defines a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amed StringBuild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modifications you make to the StringBuilder instance affec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derlying buff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304920" y="266688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System.Text; // Recall, StringBuilder lives her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tring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reate a StringBuilder and change the underlying buff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myBuffer = new StringBuilder("I am a buff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Buffer.Append(" that just got longer..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myBuffe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E224-5EAB-4F1C-8AFB-BFE00D7C92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2"/>
          <p:cNvSpPr/>
          <p:nvPr/>
        </p:nvSpPr>
        <p:spPr>
          <a:xfrm>
            <a:off x="304920" y="763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yond appending to the internal buffer, the StringBuilder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ws to replace and remove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we have established the state of your buffer, call ToString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store the final result into a System.String data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28600" y="1981080"/>
            <a:ext cx="876312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tring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Builder myBuffer = new StringBuilder("I am a buffer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Capacity of StringBuilder is:" + myBuffer.Capacit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Buffer.Append(" that just got longer..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myBuffe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Buffer.Append("and even longer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myBuffe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ransfer the buffer to an uppercase fixed str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myBuffer.ToString().ToUpper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C2BA-4C80-47F2-8062-DAE0E3A36D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# Enum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152280" y="838080"/>
            <a:ext cx="883944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it is convenient to create a set of symbolic nam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derlying numerical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if you are creating an employee payroll system, yo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wish to use the constants VP, Manager, Grunt, and Contra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ather than raw numerical values such as {0, 1, 2, 3}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the notion of custom enumerations for this very reas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example, here is the EmpType enumer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228600" y="3886200"/>
            <a:ext cx="86868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 custom enumer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unt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or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2A6-E7FF-4851-9DB6-AFF825E21B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the numbering scheme sets the first element to zero (0)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ault, followed by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+ 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ion. You are free to chan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is behavior as you see below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228600" y="1371600"/>
            <a:ext cx="876312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Begin numbering at 10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2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n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= 1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= 1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= 1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52280" y="3657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umerations do not necessarily need to follow a sequential or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28600" y="4267080"/>
            <a:ext cx="876312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= 1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nt 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= 10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 =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6235-FE0C-401D-883F-9609B22D99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152280" y="15228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orage type used for each item in an enumeration maps to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Int32 by default. You are also free to change this to y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i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ant to set the underlying storage value of EmpType to b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te rather than an int, we can write as follow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304920" y="2362320"/>
            <a:ext cx="853416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time, EmpType maps to an underlying by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um EmpType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= 10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unt = 1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or = 100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=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1E81-9D83-4EFB-85F9-C9D0F60983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52280" y="25704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lloClass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8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Default constructor called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8(int x, int 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stom constructor called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X = 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intX, int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loClass8 c1 = new HelloClass8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1.intX = {0} \n c1.intY = {1} \n",c1.intX, c1.in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loClass8 c2 = new HelloClass8(100,20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2.intX = {0} \nc2.intY = {1} \n", c2.intX, c2.in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2D4D-B876-4DB7-9FF3-AB7554A772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2"/>
          <p:cNvSpPr/>
          <p:nvPr/>
        </p:nvSpPr>
        <p:spPr>
          <a:xfrm>
            <a:off x="228600" y="0"/>
            <a:ext cx="8458200" cy="6712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lass EnumCla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AskForBonus(EmpType e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witch(e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Contractor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You already get enough cash...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Grunt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You have got to be kidding...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Manager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How about stock options instead?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VP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VERY GOOD, Sir!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default: 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EmpType fred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fred = EmpType.Contractor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AskForBonus(fred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8352-3216-4929-96C7-0287256C92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ystem.Enum Bas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228600" y="76212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eresting thing about .NET enumerations is that th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icitly derive from System.Enu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base class defines a number of methods that allow you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rogate and transform a given enum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" name="Picture 5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763120" cy="4038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7CF2-7275-4AB6-BAA6-46BFDF569F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2"/>
          <p:cNvSpPr/>
          <p:nvPr/>
        </p:nvSpPr>
        <p:spPr>
          <a:xfrm>
            <a:off x="152280" y="22860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anage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ru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tracto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enumer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rint information for the EmpType enume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rray obj = Enum.GetValues(typeof(EmpType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is enum has {0} members.", obj.Leng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EmpType e in obj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String name: {0},", e.ToString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 int: ({0}),", Enum.Format(typeof(EmpType), e, "D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 hex: ({0})\n", Enum.Format(typeof(EmpType), e, "X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AA0F-052D-4FD1-91BB-4913BAC362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Structures in C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228600" y="83808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s can take constructors (provided they have arguments)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n implement interfaces, and can contain numerous memb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tructures  are implicitly derived from System.Value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228600" y="2514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FFBF-C622-4CDF-B990-2CC3BAC330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228600" y="7632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Our existing enume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um EmpType : 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= 10, Grunt 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= 100, VP =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 EMPLOY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EmpType title; // One of the fields is our custom en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hort dept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truct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reate and format Fr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fre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d.deptID = 4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d.name = "Fred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d.title = EmpType.Gru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0126-02D8-4F05-A573-31630870A6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2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do not denote a custom constructor, we are required to assig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lues to each field before making use of stack-based vari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304920" y="1447920"/>
            <a:ext cx="868680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tructs may define custom constructors (if they have arg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Fiel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Type titl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hort deptI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onstruc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EmpType et, string n, short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= e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= 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ID = 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C790-40EC-4B91-9820-C3329868CA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228600" y="22860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truct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ust use 'new' to trigger a custom construct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mary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(EmpType.VP, "Mary", 1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" y="2895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"new" keyword is only used for consistency between value-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based and reference-based types. When you "new" a structure, you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are still creating a stack-based ent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1B89-7099-46E2-902F-7E63EAE5BD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228600" y="1440"/>
            <a:ext cx="8686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s can, of course, be used as parameters to any me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ssume the StructTester class defines a method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splayEmpStats(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304920" y="1752480"/>
            <a:ext cx="861048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Extract interesting information from an EMPLOYEE structu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DisplayEmpStats(EMPLOYEE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Here is {0}\'s info:", e.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Department ID: {0} ", e.deptI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itle: {0} ", e.titl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EmpStats(mar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EmpStats(fre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7BC7-139F-47E7-983F-3FD7E0929D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Un)boxing Custom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152280" y="609480"/>
            <a:ext cx="87631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ing and unboxing provide a convenient way to flip betwe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value types and reference typ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onvert a structure variable into an object reference, simply box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 val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304920" y="2270160"/>
            <a:ext cx="861048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reate and box a new employe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stan = new EMPLOYEE(EmpType.Grunt, "Stan", 1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stanInBox = sta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304920" y="3657600"/>
            <a:ext cx="861048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Because we have boxed our value data type into a struc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e can unbox and manipulate the cont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UnboxThisEmployee(object 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 temp = (EMPLOYEE)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ole.WriteLine(temp.name + " is alive!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943600"/>
            <a:ext cx="861048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end boxed employee in for process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oxThisEmployee(stanInBo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D788-6DD9-4344-9EF4-57ADDD218F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Custom Name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77840" y="711360"/>
            <a:ext cx="88390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n we build our own custom applications, it can be very helpful  to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group the related types into custom namespace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C#, this is accomplished using the namespace keywor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ssume we are developing a collection of geometric classes nam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Square, Circle, and Hexagon. Having similarities, we would like to group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them all together into a common custom namespac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 have two basic approaches. First, we define each class within a singl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file (shapeslib.cs) as follows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241200" y="3962520"/>
            <a:ext cx="8763120" cy="2770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shapeslib.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Shap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Circle cla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Circle{ /* Interesting methods... */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Hexagon cla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xagon{ /* More interesting methods... */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Square cla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Square{ /* Even more interesting methods... */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5EA-B91F-4EC1-AED3-46B7C2BD44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at a Memory Lea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" y="8380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() method of the previous HelloClass type has no logic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plicitly destroys the c1 and c2 variab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0880" y="1752480"/>
            <a:ext cx="861084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Class8 c1 = new HelloClass8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1.intX = {0} \n c1.intY = {1} \n",c1.intX, c1.int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Class8 c2 = new HelloClass8(100,20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2.intX = {0} \nc2.intY = {1} \n", c2.intX, c2.int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4495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garbage collector frees the allocated memo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utomatically, and therefore C# does not support a "delete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5228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natively, we can split a single namespace into multiple C# file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wrap the given class definitions in the same namesp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228600" y="838080"/>
            <a:ext cx="876312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ircle.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ircle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hexagon.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Hexagon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quare.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quare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52280" y="152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other namespace wishes to use objects within a distin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amespace,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can be used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228600" y="106668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Make use of types defined the MyShape namesp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using MyShap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xagon h = new Hexag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c = new Circl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are s = new Squar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e’s Fully Qualified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52280" y="8380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not required to make use of the C# using keyword wh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ing a type defined in an external namespace,  rather fu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qualified name of the type could be 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304920" y="213372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te we are not 'using' MyShapes anym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xagon h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xag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ircle c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ircl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Square s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Squar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228600" y="228600"/>
            <a:ext cx="861048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Another shapes namespace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3DSh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Circle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Hexag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Squar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228600" y="152280"/>
            <a:ext cx="8763120" cy="579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Ambiguities abound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3D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Which namespace do I referenc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xagon h = new Hexagon()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 c = new Circle()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s = new Square()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304920" y="228600"/>
            <a:ext cx="8534160" cy="265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We have now resolved the ambigu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3DShapes.Hexagon h = new My3DShapes.Hexago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3DShapes.Circle c = new My3DShapes.Circl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hapes.Square s = new MyShapes.Squar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using 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52280" y="647640"/>
            <a:ext cx="8839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# using keyword can also be used to create a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ia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a type’s  full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qualified nam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do so, we are able to define a token that is substituted with  the type’s ful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name at compil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152280" y="2139840"/>
            <a:ext cx="8839440" cy="4726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3D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solve the ambiguity using a custom ali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3DHexagon = My3DShapes.Hexag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is really creating a My3DShapes.Hexagon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3DHexagon h2 = new The3DHexagon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22860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alternative using syntax can also be used to create an alias to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engthy name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228600" y="158436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Ali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ystem.Runtime.Serialization.Formatters.Binar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Ali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BinaryFormatter b = ne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Ali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BinaryFormatter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228600" y="22860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.Runtime.Serialization.Formatters.Binar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Formatter b = new BinaryFormatt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ing Nested Name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77840" y="685800"/>
            <a:ext cx="8763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spaces with in other namespaces can be 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base class libraries do so in numerous places to prov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even deeper level of type organ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create a root namespace that contains the exis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y3DShapes namespace, we can update our code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228600" y="3048120"/>
            <a:ext cx="8610480" cy="366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Nesting a namesp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Chapte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3D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3D Circle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3D Hexagon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3D Square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9F13-8B27-4427-9AA2-B7D1464CF9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osition of a C#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838080"/>
            <a:ext cx="86104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loClass8 type has been constructed to perform two duti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the class defines the entry point of the applic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, HelloClass8 maintains two custom data members and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ew overloaded constru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more thing is that the static Main() method creates an inst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very class in which  it was 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ested namespace can be defined using the following comp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228600" y="990720"/>
            <a:ext cx="868680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esting a namespace (take tw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Chapter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My3DSh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Circle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Hexag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Squar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F79A-9717-4D49-90EA-6E956E38FE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152280" y="15228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ring userMessag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Console.WriteLine("Default ctor called!"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(string ms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stom ctor called!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Message = ms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PrintMessag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ssage is: {0}", userMessag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lloA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loClass c1 = new HelloClass("Hey there..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1.PrintMessag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F23F-D56F-40F8-B5C3-1489A1726E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Assignments and Variabl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52280" y="6094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intrinsic .NET data types have a default value.  When cust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are created, all member variables are automatically assign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ir appropriate default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4920" y="1828800"/>
            <a:ext cx="8610480" cy="478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DefaultValueTe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byte theSignedBy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byte theBy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hort theShor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ushort theUShor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int theIn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uint theUIn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long theLong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ulong theULong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char theCha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loat theFloa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double theDoubl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bool theBoo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decimal theDecima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ring theSt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ValueTester v = new DefaultValueTester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C90-D36A-4C82-9DB0-300D3E4C73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atomy of a Simple C#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9144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8600" y="838080"/>
            <a:ext cx="8763120" cy="411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By convention, C# files end with a *.cs file ex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Hello World!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E511-F8AB-4BFF-A274-B6A38460CA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define variables within a method scope, you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initial value before you use them, as they do not receive a defaul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04920" y="1371600"/>
            <a:ext cx="868680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 Must assign localInt to an initial value before 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localI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localI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3638520"/>
            <a:ext cx="8686800" cy="2157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Better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localInt=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localI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E9D-8C7B-4D15-BB90-38724AA7B06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# Member Variable Initialization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28600" y="83808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lass may define various custom constructors,  and its annoy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 write the same initialization code in each and every constru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particularly necessary if you do not wish to accep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ault values assigned to your stat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04920" y="2971800"/>
            <a:ext cx="8610480" cy="2770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This is OK, but redundant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int myIn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() { myInt = 9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(string someStringPara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myInt = 9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(bool someBoolPara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myInt = 9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CBCA-8E7D-4351-8E73-0CE172CCF6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304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lternative would be to define a private helper function for y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 type that is called by each construc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1143000"/>
            <a:ext cx="8763120" cy="366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is is OK, but redundant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myI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() { InitData(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(string someStringPara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InitData(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(bool someBoolPara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InitData(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void InitData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myInt = 9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28600" y="5029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both of these techniques are still valid, C# allows you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 a type's member data to an initial value at the tim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ADC3-1772-49BB-8BF4-0FADBDBB96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04920" y="304920"/>
            <a:ext cx="861048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technique is useful when you don't want to accept default 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and would rather not write the same initialization code in each construct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myInt = 9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string myStr = "My initial value.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tRod viper = new HotRod(200, "Chucky", Color.Re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CC8-3CE6-4BFE-950D-B1B7BFF1A7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Input and Output with the Consol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" y="838080"/>
            <a:ext cx="87631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thods of System.Console are Read(), ReadLine() Write()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riteLine(), all of which are defined as stati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Line() pumps a text string (including a carriage retur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the output strea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rite() method pumps text to the output stream without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riage retur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Line() allows you to receive information from the input strea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p until the carriage retur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() is used to capture a single character from the input stre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61F7-6E96-475B-9469-492010FCED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04920" y="228600"/>
            <a:ext cx="8610480" cy="4826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Make use of the Console class to perform basic 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Bas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("Enter your nam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Hello, {0}",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("Enter your ag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your are {0} years old", 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1921-B78B-4BF8-B089-BE3F30EA28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tting Textual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62120"/>
            <a:ext cx="868680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Make use of the Console class to perform basic 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Bas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theInt = 9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theFloat = 9.99F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IO myIO = new BasicIO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Format a string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Int is : {0} \n Float is: {1} \n You Are: {2}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Int, theFloat, myIO.ToString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5105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Line() has been over-loaded to allow you to specif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laceholder values as an array of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882F-C534-47D6-BB5D-741C73FD64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28600" y="228600"/>
            <a:ext cx="8763120" cy="1313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Fill placeholders using an array of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[] stuff = {"Hello", 20.9, 1, "There", "83", 99.99933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tuff: {0} , {1} , {2} , {3} , {4} , {5} ", stuf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04920" y="1752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ant to build the string "9Number9Number9” write as be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04920" y="236232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{0}Number{0}Number{0}", 9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04920" y="838080"/>
            <a:ext cx="868680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c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args.Length ==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\n So Please enter two numbers as command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arameters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\n Command line parameters recieved ar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ach (string str in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for command line para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04920" y="304920"/>
            <a:ext cx="8534160" cy="4826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sum = 0, prod = 1,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ach (string str in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= int.Parse(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= sum +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 = prod *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 \n Sum of command line parameters = " + 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 \n Product of command line parameters = "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pro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F57F-B1E0-45B2-8F90-0E2821AA69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83808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Hello....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 "+args[0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 "+args[1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and line argu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63B3-C998-413A-80C9-E5CFA24F29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ing Formatting Fl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04920" y="609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T String Format Charac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15400" cy="41911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28600" y="54100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format characters are suffixed to a given placeholder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olon token (for example, {0:C}, {1:d}, {2:X}, and so on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0ED-9AAF-42E5-A2EB-82BD28011E2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28600" y="228600"/>
            <a:ext cx="868680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w make use of some format ta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 format: {0:C}", 99989.987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D9 format: {0:D9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E format: {0:E}", 99999.7654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F3 format: {0:F3}", 99999.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N format: {0:N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X format: {0:X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x format: {0:x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75B-9BA3-4590-A576-36CC56D1C9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04920" y="22860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the C# formatting characters is not limited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ystem.Console.WriteLine()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se same flags can be used within the context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tatic String.Format()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be helpful when you need to build a string contain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erical values in memory and display it at a later t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28600" y="3124080"/>
            <a:ext cx="8610480" cy="1571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Use the static String.Format() method to build a new str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formSt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Str = String.Format("Don't you wish you had {0:C} in your account?", 99989.987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formSt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7A0B-04D9-498F-A4AB-E80FA4D393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Value Types and Referenc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2280" y="838080"/>
            <a:ext cx="883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.NET data type may b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ue-bas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ference-bas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-based types include all numerical data types (int, float..)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ll as enumerations and structures, are allocat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 the st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 types can be quickly removed from memory once they fall o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defining sco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3124080"/>
            <a:ext cx="861048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Integers are value typ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i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// 'i' is popped off the stack her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687-8298-454F-893C-F4466B333D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28600" y="304920"/>
            <a:ext cx="86868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ssigning two intrinsic value types results in  two independent variables on the sta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i = 9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j =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fter the following assignment, i is still 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= 873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E28D-50C8-4EFC-8995-BC73A9D9EE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2280" y="76320"/>
            <a:ext cx="8915400" cy="670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Structures are value types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 FO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alRefCl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 f1 = new FOO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1.x = 10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1.y = 10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-&gt; Assigning f2 to f1\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 f2 = f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Here is F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1.y = {0}", f1.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Here is F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2.y = {0}", f2.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Change f2.x.  This will not change f1.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-&gt;Changing f2.x to 900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2.x=90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Print aga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04920" y="30492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we have created a structure of type FOO (named f1) tha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n assigned to another FOO structure (f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FOO is a value type, we have two copies of the FO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ype on the stack, each of which can be independen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anipula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when we change the value of f2.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 value of f1.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naff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7D2-137A-48B6-A450-4A84984E8B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8600" y="30492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rast, reference types are allocated on the garbage-collec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entities stay in memory until the .NET garbage colle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troys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 of reference types results in a new reference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me object in the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04920" y="3352680"/>
            <a:ext cx="861048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lasses are always reference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F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D55E-E0BF-4C95-88A8-A9192298B7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55680" y="76320"/>
            <a:ext cx="861048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ValRef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 f1 = new FOO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1.x = 10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1.y = 10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&gt; Assigning f2 to f1\n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 f2 = f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Here is F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1.y = {0}", f1.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Here is F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2.y = {0}", f2.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Change f2.x.  This will  change f1.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&gt;Changing f2.x to 900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2.x=90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Print ag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3049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you have two references pointing to the same object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aged hea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when you change the valu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 f2 referenc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1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s the same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EA5A-959A-45AD-8B0B-0EB4ED762C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83808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name = "c sharp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String objects in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24C-8245-4BD5-852C-B5939D9C48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355680" y="177840"/>
            <a:ext cx="85341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ue Types Containing Referenc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8600" y="914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the following reference (class)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28600" y="1533600"/>
            <a:ext cx="8763120" cy="302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pe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infoStr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hapeInfo(string inf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tring = inf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" y="4648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that you want to contain a variable of this refer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within a value type (structu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C7CB-4940-4D2D-BE16-014C78B840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152280" y="228600"/>
            <a:ext cx="8839440" cy="381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Rect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MyRectangle structure contains a reference type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Shape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rect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    //Refrence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top, left, bottom, right;    //Value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ring inf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rect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Shape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f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= left = 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= right = 10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3848-FBD8-4BA9-9578-7395B4DA74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228600" y="22860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reference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Create the first MyRectang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Creating r1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1 = new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"This is my first rect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Now assign a new MyRectangle to r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Assigning r2 to r1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 = r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Change values of r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Changing all values of r2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.</a:t>
            </a: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rectInf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infoString = "This is new info!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.bottom = 444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Print val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Values after change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1.rectInfo.infoString: {0}", r1.rectInfo.infoStri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2.rectInfo.infoString: {0}", r2.rectInfo.infoStri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1.bottom: {0}", r1.bott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2.bottom: {0}", r2.bott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304920" y="2286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change the value of the informational string using the r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, the r1 reference displays the same valu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efault, when a value type contains other reference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ment results in a cop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f the referen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you have two independent structures, each of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ains a reference pointing to the same object in memory (i.e.,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hallow co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544-5F57-49E5-8F5D-92E547DD91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55680" y="177840"/>
            <a:ext cx="853416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 and Reference Types: Final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4419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129528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ue Types and Reference Types Side b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674B-61DA-4BEE-B517-F4B6493BE6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336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1B5-B49D-44DA-B286-0F217338DC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55680" y="177840"/>
            <a:ext cx="85341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ster Node: System.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28600" y="990720"/>
            <a:ext cx="876312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every data type (value or reference based) is ultimate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from a common base clas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bject class defines a common polymorphic behavior for eve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in the .NET unive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explicitly stat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your base class, yo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free to define your class definitions using either of the follow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t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57200" y="4876920"/>
            <a:ext cx="853452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Here we are explicitly deriving from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 : System.Object {...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ame story her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 : object{...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533520" y="2666880"/>
            <a:ext cx="80769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Implicitly deriving from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 {...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A07B-1650-412D-B0C1-7AD878C895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228600" y="1522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most .NET classes,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fines a set of instance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vel and class-level (static) memb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some of these items are declared "virtual," and c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refore be overridden by a derived cla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04920" y="1990800"/>
            <a:ext cx="861048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topmost class in the .NET world: System.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Ojbec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ean Equals(Object obj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32 GetHashCod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ring ToString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oid Finaliz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Object MemberWiseClo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Equals(object objA, object obj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ReferenceEquals(object objA, object obj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5425-F7CC-4A6C-AAC2-3C836D13CF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7260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228600" y="533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e Members of System.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C3A-3700-4D36-A410-C6693BDA14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4267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1AE6-6FAE-48E0-9F84-C2FF345B51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28600" y="838080"/>
            <a:ext cx="8763120" cy="558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Test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fu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Console.WriteLine("hooooooooooooooo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Class test = new TestClass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fu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with two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AAD4-5DF7-416B-85FE-45125778B5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28600" y="228600"/>
            <a:ext cx="876312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reate some objects and exercise the inherited System.Object metho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Obj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ake an instance of ObjTe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Test c1 = new ObjTes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Pump info to conso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ToString: {0} ", c1.ToString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Hash code: {0} ", c1.GetHashCod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Base class: {0} ", c1.GetType().BaseTyp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ake some other references to c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Test c2 = c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o = c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re all 3 instances pointing to the same object in memor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o.Equals(c1) &amp;&amp; c2.Equals(o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Same instance!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6477120" y="304920"/>
            <a:ext cx="2666880" cy="1143000"/>
          </a:xfrm>
          <a:prstGeom prst="wedgeRectCallout">
            <a:avLst>
              <a:gd name="adj1" fmla="val -54226"/>
              <a:gd name="adj2" fmla="val 1658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rived classes override this method to return a string representing the values of its internal state dat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6248520" y="4800600"/>
            <a:ext cx="2666880" cy="838080"/>
          </a:xfrm>
          <a:prstGeom prst="wedgeRectCallout">
            <a:avLst>
              <a:gd name="adj1" fmla="val -37736"/>
              <a:gd name="adj2" fmla="val -237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turns an integer that identifies a specific object instan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838080" y="1143000"/>
            <a:ext cx="2667240" cy="1143000"/>
          </a:xfrm>
          <a:prstGeom prst="wedgeRectCallout">
            <a:avLst>
              <a:gd name="adj1" fmla="val 153986"/>
              <a:gd name="adj2" fmla="val 1433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tType() retrieves a System.Type object, which defines a property named BaseTyp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80880" y="2514600"/>
            <a:ext cx="3581640" cy="1143000"/>
          </a:xfrm>
          <a:prstGeom prst="wedgeRectCallout">
            <a:avLst>
              <a:gd name="adj1" fmla="val 26287"/>
              <a:gd name="adj2" fmla="val 14013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default behavior of Equals() is to compare two objects' variables us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ference semantic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emant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FA3-A526-45FF-B29C-957F1E42F9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80880" y="152280"/>
            <a:ext cx="85345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riding Some Default Behaviors of System.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28600" y="838080"/>
            <a:ext cx="868680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the System.Object can be used in number of cases, i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quite common for our custom types to override some of the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herited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bject defines a number of virtual methods (such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String() and Equals()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if we want to build a custom implementation of the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irtual members for a derived type, we make use of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override"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92A1-B8C6-493A-B0F6-46D850B688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52280" y="1522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illustrate, assume we have a Person class that defines some state da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representing an individual's name, social security number, and ag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28600" y="99072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member! All classes implicitly derive from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Person(string fname, string lname, string ssn, byte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Name = f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Name = l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= ss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 =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Person(){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state of a pers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firs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las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SS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byte ag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16E-FD7F-43A4-9A91-593D2979988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2280"/>
            <a:ext cx="8534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riding ToString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04920" y="68580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override System.Object.ToString() to return a text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ation of a person’s st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54160" y="1498680"/>
            <a:ext cx="8686800" cy="3987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Need to reference this namespace to access StringBuilder type using System.T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A Person Class implements ToString() as s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Overriding System.Object.ToString(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ToString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Builder sb = new StringBuilder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[FirstName = {0}", this.first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 LastName = {0}", this.last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 SSN = {0}", this.SS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 Age = {0}]", this.ag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sb.ToString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04920" y="5410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ype is typically more efficient alternative to System.Stri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iven that we have direct access to the underlying buff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haracte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38B-0847-49C4-A2FE-251D74760D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riding Equals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228600" y="1600200"/>
            <a:ext cx="868680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Person class implements Equals() as 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ol Equals(object 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oes the incoming object instance have the same values as m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 temp = (Person)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temp.firstName == this.firstName &amp;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.lastName == this.lastName &amp;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.SSN == this.SSN &amp;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.age == this.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als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28600" y="685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ls() returns true only if the two references being compared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ing the same object in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C134-E759-4069-A2C4-AF211A5BCD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riding GetHashCode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52280" y="914400"/>
            <a:ext cx="88394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lass overrides the Equals() method, we should also overr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efault implementation of GetHashCode() (if  not, we are issu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compiler warning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thod returns a numerical value &amp; used to identify an object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ory, and is commonly used with hash-based colle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any algorithms that can be used to create a hash cod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me fancy, others not so fanc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simplest case, an object's hash value will be generated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aking its state data into consideration, and building a uniq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erical identifier for the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0F87-EA5E-425E-94D0-9FF9414F49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228600" y="228600"/>
            <a:ext cx="861048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eturn a hash code based on the person's SS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override int GetHashC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SSN.GetHashCod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9C1A-7694-4697-8F6A-7C020BA48A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304920" y="152280"/>
            <a:ext cx="8610480" cy="627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NOTE: We want these to be identical to test the Equals() metho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 p1 = new Person("Fred", "Jones", "222-22-2222", 98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 p2 = new Person("Fred", "Jones", "222-22-2222", 98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Equals() now uses value semantic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As well, given that each object has the same SSN, they should h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the same hash-code (given the work performed by System.String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(p1.Equals(p2) &amp;&amp; p1.GetHashCode() = = p2.GetHashCode(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have same state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are DIFFERENT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Change state of p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Changing the age of p2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.age = 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Test aga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(p1.Equals(p2) &amp;&amp; p1.GetHashCode() = = p2.GetHashCode(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have same state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are DIFFERENT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Get 'stringified' version of objec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Stringified people!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p1.ToString()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p2)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ToString() called automatical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22CF-481B-4363-8DA9-02B09F829E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52280" y="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Members of System.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228600" y="457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bject does define two static members (Object.Equals()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.ReferenceEquals()) that  test for value-based 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based equali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04920" y="1660680"/>
            <a:ext cx="8458200" cy="3606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tatic members of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 p3 = new Person("Sally", "Jones", "333",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 p4 = new Person("Sally", "Jones", 333", 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Do p3 and p4 have the same state? TRU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3 and p4 have same state: {0} ", object.Equals(p3,p4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re they the same object in memory? FALS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3 and p4 are pointing to same object :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.ReferenceEquals(p3,p4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257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 the object.ReferenceEquals method is not frequen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sed, its existence helps reveal the behavior of the virt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xecution environment with regards to memory allocations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ferential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29F0-EC3B-4E15-B45A-6F0686521B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ystem Data Types (and C# Alia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279360" y="830160"/>
            <a:ext cx="8583480" cy="5197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11F-4CE2-4843-995C-3D43881C85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28600" y="695160"/>
            <a:ext cx="876312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.Windows.Form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peak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Box.Show("Hello..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3565440"/>
            <a:ext cx="87631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estAp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esting! 1, 2, 3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Message h = new HelloMessag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Speak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87480"/>
            <a:ext cx="87631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more example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8A5A-B3B5-4533-9FA9-D67FED7B49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4724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28600" y="4946760"/>
            <a:ext cx="8763120" cy="1225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1A6-7149-43F1-A145-7DE2A13445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543800" cy="6172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D89-CA0B-4D2E-B239-960B4A1D57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28600" y="22860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C# defines a number of data types, only a subse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ole are compliant with the rules of the CL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build custom types that must work seamlessly across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anguages, you must stick to this well-defined sub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CC12-085C-4B1E-B922-7690726D6D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152280" y="7632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ing with the System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purpose of System.ValueType is to override the virt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defined by System.Object to work with value-based vers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-based seman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228600" y="2305080"/>
            <a:ext cx="8763120" cy="265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Test value seman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Int32 intA = 1000; // Same as: int intA = 10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Int32 intB = 1000; // Same as int intB = 10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e test succeeds! The two instances contain the same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intA = = int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Same Valu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BF0D-C812-405B-BDA5-BCDCA77D5B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Numerical Me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52280" y="6094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merical types support MaxValue and MinValue propert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provide information regarding the minimum and maximum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given type can h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28600" y="1828800"/>
            <a:ext cx="8686800" cy="4717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MyDataTyp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Int16 myUInt16 = 3000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for an UInt16 is :{0}", UInt16.Max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in for an UInt16 is :{0}", UInt16.Min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Value is: {0}", myUInt16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I am a: {0}",myUInt16.GetType().ToString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Now in System.UInt16 shorthand( eg. a ushort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hort myOtherUInt16 = 1200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for an UInt16 is: {0}", ushort.Max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in for an UInt16 is: {0}", ushort.Min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Value is: {0}", myOtherUInt16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I am a: {0}", myOtherUInt16.GetType().ToString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01C6-26BB-46AD-9A73-DB407ED9AB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266760" y="144360"/>
            <a:ext cx="8610480" cy="6573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lass MyDataTyp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Int16 myUInt16 = 30000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ax for an UInt16 is :{0}", UInt16.Max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in for an UInt16 is :{0}", UInt16.Min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Value is: {0}", myUInt16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I am a: {0}",myUInt16.GetType().ToString()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//Now in System.UInt16 shorthand( eg. a ushort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short myOtherUInt16 = 12000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ax for an UInt16 is: {0}", ushort.Max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in for an UInt16 is: {0}", ushort.Min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Value is: {0}", myOtherUInt16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I am a: {0}", myOtherUInt16.GetType().ToString()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Epsilon: {0}", double.Epsilon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PositiveInfinity: {0}", double.PositiveInfinity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double.NegativeInfinity: {0}", double.NegativeInfinity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MaxValue: {0}", double.Max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MinValue: {0}", double.Min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9296-15B1-42FF-A9FB-CC56E624E2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ers of System.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52280" y="8380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Boolean support a TrueString/FalseSt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228600" y="1371600"/>
            <a:ext cx="86868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 = 0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//Il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2 = -1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/Il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3 = tru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// No pr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4 = fals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//No pr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--&gt; bool.FalseString: {0}", bool.False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--&gt; bool.TrueString: {0}", bool.True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923-DBAF-4324-8C6A-A8521C6779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ers of System.Ch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52280" y="762120"/>
            <a:ext cx="8839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offers a very simplified view of string man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.NET-aware languages map textual data to the same underly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(System.String and System.Char), both are Uni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 static methods of System.Char, you are able to determ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a given character is numerical, alphabetical, a point of punctua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 whatn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FF0A-51AB-4096-B92E-4169E4674D1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28600" y="228600"/>
            <a:ext cx="8686800" cy="599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Digit('K'): {0}", char.IsDigit('K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Digit('9'): {0}", char.IsDigit('9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Letter('10', 1): {0}", char.IsLetter("10", 1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Letter('p'): {0}", char.IsLetter('p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WhiteSpace('Hello There', 5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WhiteSpace("Hello There", 5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WhiteSpace('Hello There', 6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WhiteSpace("Hello There", 6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LetterOrDigit('?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LetterOrDigit('?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Punctuation('!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Punctuation('!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Punctuation('&gt;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Punctuation('&gt;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Punctuation(',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Punctuation(',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4F96-8A31-47C5-9B62-44C9C44849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ing Values from Str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52280" y="838080"/>
            <a:ext cx="8763120" cy="411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ool myBool = bool.Parse("Tru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Bool: {0}", myBoo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ouble myDbl = double.Parse("99.884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Dbl: {0}", myDb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 myInt = int.Parse("8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Int: {0}", myIn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har myChar = char.Parse("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Char: {0}\n", myCh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936-C137-4CAC-BEF3-7EF8D82559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28600" y="83808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("Enter your name: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name = Console.ReadLi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Hello" + 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active console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2DD-65F9-4123-A58E-8858CB21C98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52280" y="76320"/>
            <a:ext cx="8915400" cy="947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ting Between Value Types and Reference Types: Boxing and Unbo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152280" y="1143000"/>
            <a:ext cx="883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defines the types into value-based and reference-ba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times we need to represent a variable of one category a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 of the other categ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a very simple mechanism to convert between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and reference types, termed as box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04920" y="3581280"/>
            <a:ext cx="861048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Make a simple value data poi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ort s = 2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04920" y="5470560"/>
            <a:ext cx="861048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x the value into an object refer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Short = 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304920" y="44197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above value type need to be represented as reference typ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can box it as be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4116-FA36-4DBF-AB4D-DE0BCF5002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228600" y="228600"/>
            <a:ext cx="8763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ing can be formally defined as the process of explici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verting a value type into a corresponding reference typ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box a value, the CLR allocates a new object on the hea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copies the value type’s value (in this case, 25) into that instanc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at is returned to you is a reference to the newly allocated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posite operation is also permitted throug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box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oxing is the term given to the process of converting the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ld in the object reference, back into a corresponding value type 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tac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nboxing operation begins by verifying that the receiving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is equivalent to the boxed type, and if so, copying the value o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box into a local stack based vari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0880" y="5410080"/>
            <a:ext cx="86868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Now, unbox the reference back into a corresponding sh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ort anotherShort = (short)objShor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520B-4A07-4BFB-8B1D-D069307B91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228600" y="9360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very important that we have to unbox into an appropriate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the following unboxing logic generates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validCastException exce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4920" y="2041560"/>
            <a:ext cx="861048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The type contained in the box is NOT a string, but a shor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tr = (string)objShor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(InvalidCast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OOPS! \n {0}", e.ToString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DBDA-2813-4D1A-A02C-0BBA17882B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ractical (Un)boxing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52280" y="914400"/>
            <a:ext cx="883944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pass a value type into a method requiring an object paramete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oxing occurs behind the curta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invoke members of the underlying value type, we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 required to perform an explicit unboxing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EF83-03A5-4FFB-9BF8-D3CA2B822E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190440" y="304920"/>
            <a:ext cx="876312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Box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reate an int (value typ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myIn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= 9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Because myInt is passed into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thod prototyped to take an objec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yInt is 'boxed' automatical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ff3300"/>
                </a:solidFill>
                <a:latin typeface="Times New Roman"/>
              </a:rPr>
              <a:t>UseThisObjec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myIn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</a:t>
            </a:r>
            <a:r>
              <a:rPr b="0" sz="2000" spc="-1" strike="noStrike">
                <a:solidFill>
                  <a:srgbClr val="ff3300"/>
                </a:solidFill>
                <a:latin typeface="Times New Roman"/>
              </a:rPr>
              <a:t>UseThisObjec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object 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Value of o is: {0}", 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c boxing also occurs when working with the types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base class librari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System.Collections namespace defines a class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ArrayList. Like most collection types, ArrayList provid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 that allow you to insert, obtain, and remove it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2971800"/>
            <a:ext cx="8534160" cy="302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Box ints into ArrayL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rrayList myInts = new ArrayLis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Ints.Add(8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Ints.Add(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Ints.Add(9764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Unbox first i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 firstItem = (int)myInts[0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First item is {0}", firstIte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52280" y="822240"/>
            <a:ext cx="89154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TestBox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 = 123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bject obj = i;  // Implicit box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value-type value = {0}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object-type value = {0}",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 = 456;       // Change the contents of i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\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value-type value = {0}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object-type value = {0}",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j = (int)obj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//unbox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The value-type value = {0}", 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152280"/>
            <a:ext cx="85345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xing &amp; Unboxing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228600"/>
            <a:ext cx="8610480" cy="65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o implement stack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.Collectio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st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nde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rrayList lis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stack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dex = -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st = new ArrayLis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push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 Enter an item to push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tr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st.Add(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dex++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{0} is pushed onto the Stack.", 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228600"/>
            <a:ext cx="861048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public void pop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f (index == -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 Stack is emp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object obj = list[index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list.RemoveAt(index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ndex--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Poped item is {0}", obj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public void status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f (index == -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 Stack is emp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Contents of the STACK: 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foreach (object obj in li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obj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The count of stack elements is : {0}",list.C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28600" y="228600"/>
            <a:ext cx="868680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clear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 (index == 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Stack is 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st.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dex = -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The stack is emptied.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ACBA-1AE7-40C3-82BC-E380845562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28600" y="83808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x = 5.0,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Math.Sqrt(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 Y = " + 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Mathematics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8600" y="228600"/>
            <a:ext cx="868680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Stack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stack st = new cstack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=1, ch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hile(i==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Welcome to STACK Operations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1-----&gt; PUSH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2-----&gt; POP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3-----&gt; STATUS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4-----&gt; CLEA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5-----&gt; EXIT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 = int.Parse(Console.ReadLine(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228600"/>
            <a:ext cx="861048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1: st.push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2: st.pop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3: st.statu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4: st.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5: Environment.Exit(-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fault: Console.WriteLine(" Sorry !!! Wrong  choice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 Press ENTER to Continu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End of STACK operations... Bye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51A4-34FA-4D2B-9BA6-0F78A123BE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Program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28600" y="838080"/>
            <a:ext cx="87631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offers the "const" keyword, to define variables with a fixe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alterable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"const" keyword cannot be used to qualify parameters or retur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lue of a  constant point of data is computed 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ile t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therefore a constant member cannot be assigned to an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(whose value is computed at runtim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it is possible to define local constants within a metho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cope, a more beneficial use of const is to create class-level consta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AD06-7D87-4048-89D9-4F19D72BBC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228600" y="228600"/>
            <a:ext cx="861048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some const d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MyConst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onst int myIntConst = 5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onst string myStringConst = "I'am a const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scoped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 string localConst = "I am a rock, I am an island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use const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myIntConst = {0} \n myStringConst = {1}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IntConst, myStringCons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Local constant: {0}", localCons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69E-660A-423D-B949-A8C2157925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228600" y="1522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create a utility class that contains nothing but constant dat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may wish to define a private construc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we ensure that the object user cannot make an inst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our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04920" y="1981080"/>
            <a:ext cx="868680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Private constructors prevent the creation of a given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My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int myIntConst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string myStringConst = "I'm a const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on't let the user make this clas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s its only purpose is to define constant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MyConstants()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CD0E-E330-46CA-BD8F-4F71F4564D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result can be achieved by marking our "constant-on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lass" as an abstract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28600" y="114300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bstract definition also prevents the creation of a given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class My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int myIntConst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string myStringConst = "I'm a const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174-9AFE-4BA1-BE23-03B4CC0186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ing Constant Data Across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52280" y="838080"/>
            <a:ext cx="8839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moved our constant points of data into a new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, how are they accessed from within another typ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ttempt to simply reference them by their unqualified n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myIntConstant, myStringConstant) we will get a compiler err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ason is that under C#, global points of data are not allow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any time we wish to access a constant defined outsid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ng class, we must make use of the fully-qualified na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A203-8F94-4146-B40E-E01A5A4EB1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152280" y="152280"/>
            <a:ext cx="883944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rivate constructors prevent the creation of a given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Cons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onst int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Int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onst string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String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"I'm a const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Cons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 string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ocal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"I am a rock, I am an island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yIntConst = {0}\n myStringConst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}\n LocalConst = {2}"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Const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Int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Const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String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ocal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0585-2175-45F3-8B77-D9B9418197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# Iteration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228600" y="83808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the following four iteration constru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ach/in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/while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552-63F6-412A-893A-7879A4813B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228600" y="228600"/>
            <a:ext cx="8686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for loo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ble to specify how many times a block of code repea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tself, as well as the terminating cond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04920" y="1981080"/>
            <a:ext cx="853416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 basic for loo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te! 'i' is only visible within the scope of the for loo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 i = 0; i &lt; 10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Number is: {0} 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'i' is not visible he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3844-96C5-4E88-9663-F35B162F2F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tions on the Main(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 return type, array of strings as arg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[] ar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 return type, no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Integer return type, no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3E9E-005D-4B9B-AA33-57F84F4FD88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228600" y="152280"/>
            <a:ext cx="86868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foreach/in Loo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foreach keyword allows you to iterate over all items with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n array, without the need to test for the array’s upper lim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are two examples using foreach, one to traverse an array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s and the other to traverse an array of integ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04920" y="2590920"/>
            <a:ext cx="853416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terate array items using fore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books = {"Complex Algorithms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Do you Remember Classic COM?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C# and the .NET Platform"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string s in boo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[] myInts = { 10, 20, 30, 40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int i in myIn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FBB8-D5DE-4B33-8ABD-C9BBF575F8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228600" y="152280"/>
            <a:ext cx="86868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while and do/while Looping Constru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hile looping construct is useful when you wish to execut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of statements until some terminating condition has be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ach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in the scope of a while loop, we need to ensure this termina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vent is indeed established; otherwise, we will be stuck in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dless lo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457200" y="3429000"/>
            <a:ext cx="8381880" cy="268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(condi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B1EC-B982-4499-B3A0-1EE38FCF58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228600" y="22860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a simple while loop,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o/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used when you ne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erform some action for an undetermined number of tim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s tha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o/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ops are guaranteed to execut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rresponding block of code at least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304920" y="1981080"/>
            <a:ext cx="8610480" cy="268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while(condition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911-0AEE-47EF-ABE5-86DECD203C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# Control Flow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28600" y="609480"/>
            <a:ext cx="876312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defines two simple constructs to alter the flow of our program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ased on various contingenc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f/else sta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witch sta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if/else Stat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/else statements typically involve the use of the following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906768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15A-F71A-4CFD-BC6C-E7A80820CB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133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28600" y="2606760"/>
            <a:ext cx="8686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Switch Stat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witch statement allows you to handle program flow based o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edefined set of cho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9BDC-0404-48C6-BF8B-85C8820290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228600" y="152280"/>
            <a:ext cx="868680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Switch on a numerical valu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1 [C#], 2 [VB]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Please pick your language preferenc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langChoice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n = int.Parse(langChoic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witch (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Good choice, C# is a fine language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VB .NET: OOP, multithreading, and more!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faul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Well...good luck with that!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4D2D-BA85-463B-BC69-375797CF75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te Set of C# 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9277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BE4-1CE2-471D-861B-A4D0AC0B80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Custom Class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28600" y="83808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defining custom class methods, every method we impl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ust be a member of a class or stru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Main(), our custom methods may or may not take paramet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or may not return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ustom methods may be declared nonstatic (instance-level)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atic (class-level) ent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3C0-8913-4644-A39F-69F05D9D60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 Access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52280" y="83808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thod must specify its level of accessi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offers the following method access modif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6C45-BFA8-42CB-9B2F-DEB99101CF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979920" y="15228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are the implications of each accessibility keywor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5029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methods cannot be accessed by an object reference, b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stead are called internally by the object to help the instance get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ork d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426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4:47:45Z</dcterms:created>
  <dc:creator>Hemanth</dc:creator>
  <dc:description/>
  <dc:language>en-US</dc:language>
  <cp:lastModifiedBy>Hemanth</cp:lastModifiedBy>
  <dcterms:modified xsi:type="dcterms:W3CDTF">2012-09-06T17:35:39Z</dcterms:modified>
  <cp:revision>617</cp:revision>
  <dc:subject/>
  <dc:title>C# Language Fundamentals</dc:title>
</cp:coreProperties>
</file>